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BA3BF-16F1-42AF-8CD9-DFA8CEB0F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02ED-9A84-4866-AF0A-298BCF1CE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F89F1-EAA3-412C-818C-1923C8018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E70A8-048D-4CC4-8C3B-C50F701BC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9B220-F7C2-48BC-A7BE-A9446CBF0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83DA3-8943-4CB8-AF94-766FCB98E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BEBAC-3451-46D7-9289-C052396D1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4D377-6606-4B86-98EF-2420FB4AE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CE0B0-3E7A-4822-AB8A-0223BC52A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E2FB3-C1A5-4A88-ACB6-D9D8854B9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DDF62-547D-473A-8E57-5462E7442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9E37B-C4FE-43D2-AF36-F4456D89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9C975-8DF9-4E2C-9CB1-63B181424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107E0-09A3-43AC-AD34-4DCEE402B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187F8-DDB4-4241-A041-B50C93FC1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C83E6-2925-429B-8CB4-AE0FA3AE1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D2F9D-4980-46D6-AE2C-246F8EE7A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1E2DC-271F-492E-A542-D852F40DB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67CB4-F4A0-4E0A-B538-19499987E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F4583-4093-457B-8E28-BE306EA0A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35175-B1CE-4476-BE49-960BF8197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12FF-8B0B-425E-AD1B-3CD01DF68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495D-CCDD-4C8A-8646-2E70C8339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021A6-77C1-479C-B424-9470A151E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6063-83C7-494D-A95B-6722A965664F}"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4872-0CAA-4DB8-BAAF-E856CDA269BF}" type="slidenum">
              <a:rPr b="0" lang="es-E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divorcioexpressweb.com/wp-content/uploads/Ninos_estudiando-Ninos-comiendo-Divorcio-express-web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Buenas Prácticas</a:t>
            </a:r>
            <a:endParaRPr b="0" lang="en-US" sz="44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A partir del año 2009 los docentes de la  escuela se replantearon  algunas acciones que se realizaban desde siempre, pero éstas estaban dispersas y sin continuida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untaje SIMCE tan bajo en años anteriores fue la señal para cambiar las acciones por prácticas. Debíamos generar un  cambi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sí fue como se comenzó a trabajar en función del SIM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Tahoma"/>
              </a:rPr>
              <a:t>SIP.</a:t>
            </a:r>
            <a:br>
              <a:rPr sz="4000"/>
            </a:br>
            <a:r>
              <a:rPr b="0" lang="es-ES" sz="4000" spc="-1" strike="noStrike">
                <a:solidFill>
                  <a:srgbClr val="ffffcc"/>
                </a:solidFill>
                <a:latin typeface="Tahoma"/>
              </a:rPr>
              <a:t>Sociedad de Instrucción Primaria.</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año 2009 la C.M.V.M. contrató los servicios de la SIP. Aunque hubo oposición de algunos docente. No podemos desconocer que nos dio los lineamientos como mejorar los resultados, desnudó nuestra realidad. Actualmente se sigue usando las planificaciones y los material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PRÁCTICA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erfeccionamiento pertinente, en metodologías activas participativa a nivel de pre-básica  dada  por  la CMVM.</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ormalización en toda la Escuela. ( </a:t>
            </a:r>
            <a:r>
              <a:rPr b="0" lang="es-ES" sz="1400" spc="-1" strike="noStrike">
                <a:solidFill>
                  <a:srgbClr val="ffffff"/>
                </a:solidFill>
                <a:latin typeface="Tahoma"/>
              </a:rPr>
              <a:t>modelo SIP</a:t>
            </a:r>
            <a:r>
              <a:rPr b="0" lang="es-ES" sz="3200" spc="-1" strike="noStrike">
                <a:solidFill>
                  <a:srgbClr val="ffffff"/>
                </a:solidFill>
                <a:latin typeface="Tahoma"/>
              </a:rPr>
              <a:t>)</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tablecimiento de un diálogo y coordinación permanente en el trabajo técnico.</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ar  respuesta  en forma oportuna a los requerimientos de los doce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539640" y="764640"/>
            <a:ext cx="8229600" cy="449604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ermanencia del docente desde 1º a 4º básico.</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ar énfasis en el desarrollo de las habilidade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strucción de instrumentos evaluativos según los ejes temático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sarrollo progresivo de Nº de ítemes por evaluación en relación al tiempo.</a:t>
            </a:r>
            <a:endParaRPr b="0" lang="en-US" sz="24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miliarizar a los  alumnos con instrumentos de medición SIMCE. ( </a:t>
            </a:r>
            <a:r>
              <a:rPr b="0" lang="es-ES" sz="1800" spc="-1" strike="noStrike">
                <a:solidFill>
                  <a:srgbClr val="ffcc66"/>
                </a:solidFill>
                <a:latin typeface="Tahoma"/>
              </a:rPr>
              <a:t>más ensayos que los habituales)</a:t>
            </a:r>
            <a:endParaRPr b="0" lang="en-US" sz="1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 informa a los padres cada vez que había una evaluación ensayo. (  </a:t>
            </a:r>
            <a:r>
              <a:rPr b="0" lang="es-ES" sz="2400" spc="-1" strike="noStrike">
                <a:solidFill>
                  <a:srgbClr val="ffcc66"/>
                </a:solidFill>
                <a:latin typeface="Tahoma"/>
              </a:rPr>
              <a:t>dar</a:t>
            </a:r>
            <a:r>
              <a:rPr b="0" lang="es-ES" sz="2400" spc="-1" strike="noStrike">
                <a:solidFill>
                  <a:srgbClr val="ffffff"/>
                </a:solidFill>
                <a:latin typeface="Tahoma"/>
              </a:rPr>
              <a:t> </a:t>
            </a:r>
            <a:r>
              <a:rPr b="0" lang="es-ES" sz="2400" spc="-1" strike="noStrike">
                <a:solidFill>
                  <a:srgbClr val="ffcc66"/>
                </a:solidFill>
                <a:latin typeface="Tahoma"/>
              </a:rPr>
              <a:t>seriedad a la evaluación</a:t>
            </a:r>
            <a:r>
              <a:rPr b="0" lang="es-E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stematización de las evaluaciones con la correspondiente retroaliment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360" y="691920"/>
            <a:ext cx="8229600" cy="5113080"/>
          </a:xfrm>
          <a:prstGeom prst="rect">
            <a:avLst/>
          </a:prstGeom>
          <a:noFill/>
          <a:ln w="0">
            <a:noFill/>
          </a:ln>
        </p:spPr>
        <p:txBody>
          <a:bodyPr anchor="t">
            <a:normAutofit/>
          </a:bodyPr>
          <a:p>
            <a:pPr marL="343080" indent="-343080" algn="ctr">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ómo establecer la sana competencia.</a:t>
            </a:r>
            <a:endParaRPr b="0" lang="en-US" sz="2400" spc="-1" strike="noStrike">
              <a:solidFill>
                <a:srgbClr val="ffffff"/>
              </a:solidFill>
              <a:latin typeface="Tahoma"/>
            </a:endParaRPr>
          </a:p>
          <a:p>
            <a:pPr marL="343080" indent="-343080" algn="ctr">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peración personal)</a:t>
            </a:r>
            <a:endParaRPr b="0" lang="en-US" sz="24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3200" spc="-1" strike="noStrike">
                <a:solidFill>
                  <a:srgbClr val="ffffff"/>
                </a:solidFill>
                <a:latin typeface="Tahoma"/>
              </a:rPr>
              <a:t>¿Cómo?</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Medición semanal de la lectura con cuadros comparativos. (</a:t>
            </a:r>
            <a:r>
              <a:rPr b="0" lang="es-ES" sz="1600" spc="-1" strike="noStrike">
                <a:solidFill>
                  <a:srgbClr val="ffffff"/>
                </a:solidFill>
                <a:latin typeface="Tahoma"/>
              </a:rPr>
              <a:t>los alumnos se marcaban el Nº de palabras  leídas en el cuadro instalado en la sala.  Generación de  autonomía)</a:t>
            </a:r>
            <a:endParaRPr b="0" lang="en-US" sz="16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alizar todo tipo de lectura  trasversal a todos los subsectore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ciencia de la comprensión oral y escrita.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cientizar a  los alumnos a que debían trabajar con seriedad. ( </a:t>
            </a:r>
            <a:r>
              <a:rPr b="0" lang="es-ES" sz="2400" spc="-1" strike="noStrike">
                <a:solidFill>
                  <a:srgbClr val="ffcc66"/>
                </a:solidFill>
                <a:latin typeface="Tahoma"/>
              </a:rPr>
              <a:t>explicar   que su trabajo es  aprender y el nuestro enseñ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talecer el autoestima en los alumnos, siempre en forma disciplinada. ( </a:t>
            </a:r>
            <a:r>
              <a:rPr b="0" lang="es-ES" sz="1800" spc="-1" strike="noStrike">
                <a:solidFill>
                  <a:srgbClr val="ffffff"/>
                </a:solidFill>
                <a:latin typeface="Tahoma"/>
              </a:rPr>
              <a:t>conversaciones diarias hacerles ver que eran capaces</a:t>
            </a:r>
            <a:r>
              <a:rPr b="0" lang="es-E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reación de cuaderno  de tareas para las vacacion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9900"/>
                </a:solidFill>
                <a:uFillTx/>
                <a:latin typeface="Tahoma"/>
              </a:rPr>
              <a:t>Finalmente:</a:t>
            </a:r>
            <a:r>
              <a:rPr b="0" lang="es-ES" sz="2800" spc="-1" strike="noStrike">
                <a:solidFill>
                  <a:srgbClr val="ffffff"/>
                </a:solidFill>
                <a:latin typeface="Tahoma"/>
              </a:rPr>
              <a:t> Cosa clave hablar con las examinadoras que los alumnos no podían salir antes de que terminara el período de clases, se les dijo a los alumnos que la profesora iba  a estar esperándolos que trabajaran tranquil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o sea brindarles confianza.</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 Qué es una Práctica?</a:t>
            </a:r>
            <a:endParaRPr b="0" lang="en-US" sz="4400" spc="-1" strike="noStrike">
              <a:solidFill>
                <a:srgbClr val="ffffcc"/>
              </a:solidFill>
              <a:latin typeface="Tahoma"/>
            </a:endParaRPr>
          </a:p>
        </p:txBody>
      </p:sp>
      <p:sp>
        <p:nvSpPr>
          <p:cNvPr id="98" name="PlaceHolder 2"/>
          <p:cNvSpPr>
            <a:spLocks noGrp="1"/>
          </p:cNvSpPr>
          <p:nvPr>
            <p:ph/>
          </p:nvPr>
        </p:nvSpPr>
        <p:spPr>
          <a:xfrm>
            <a:off x="457200" y="1341000"/>
            <a:ext cx="8229600" cy="4754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 probable que algunas cosas expuestas parecieran que no son una  </a:t>
            </a:r>
            <a:r>
              <a:rPr b="0" lang="es-ES" sz="3200" spc="-1" strike="noStrike">
                <a:solidFill>
                  <a:srgbClr val="ff9900"/>
                </a:solidFill>
                <a:latin typeface="Tahoma"/>
              </a:rPr>
              <a:t>prácticas,</a:t>
            </a:r>
            <a:r>
              <a:rPr b="0" lang="es-ES" sz="3200" spc="-1" strike="noStrike">
                <a:solidFill>
                  <a:srgbClr val="ffffff"/>
                </a:solidFill>
                <a:latin typeface="Tahoma"/>
              </a:rPr>
              <a:t> pero cuando estas están en acción continua, es una práctic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6840" y="500040"/>
            <a:ext cx="8115480" cy="55958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t>
            </a:r>
            <a:r>
              <a:rPr b="0" lang="es-ES" sz="3200" spc="-1" strike="noStrike">
                <a:solidFill>
                  <a:srgbClr val="ffffff"/>
                </a:solidFill>
                <a:latin typeface="Tahoma"/>
              </a:rPr>
              <a:t>Para la libertad… canto, porque la vida no vale nada si no es para perecer, porque otros puedan tener lo que uno disfruta y am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GRACI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 name="Picture 10" descr="Ver imagen en tamaño completo">
            <a:hlinkClick r:id="rId1"/>
          </p:cNvPr>
          <p:cNvPicPr/>
          <p:nvPr/>
        </p:nvPicPr>
        <p:blipFill>
          <a:blip r:embed="rId2"/>
          <a:stretch/>
        </p:blipFill>
        <p:spPr>
          <a:xfrm>
            <a:off x="3059280" y="3357720"/>
            <a:ext cx="223344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17:49:50Z</dcterms:created>
  <dc:creator>Usuario</dc:creator>
  <dc:description/>
  <dc:language>en-US</dc:language>
  <cp:lastModifiedBy>Administrador</cp:lastModifiedBy>
  <dcterms:modified xsi:type="dcterms:W3CDTF">2011-05-17T17:45:51Z</dcterms:modified>
  <cp:revision>17</cp:revision>
  <dc:subject/>
  <dc:title>Buenas Practicas</dc:title>
</cp:coreProperties>
</file>